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14.wmf" ContentType="image/x-wmf"/>
  <Override PartName="/ppt/media/image6.png" ContentType="image/png"/>
  <Override PartName="/ppt/media/image10.wmf" ContentType="image/x-wmf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49C0-8C68-4D71-86E3-EA617D174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20DC-EA02-419D-A7CC-1226D9896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DB0AB1-5514-4E5C-A1B6-B160F479E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5B2615-4FD3-4CC3-98AE-40E8A9FEC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EDBE7C-E250-4D23-8B49-C0550E107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275D9C-0C83-4747-A606-08C7A0129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75F96B-FA98-412B-93F5-30322C4BA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A6065A-84BF-4FCD-BF8D-DBA894216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E4E804-F55D-4397-85B8-2D7203804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9E0A43-4549-454D-9946-3ADC39568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AD0322-974D-4C6C-95C0-6F9C64C0D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968106-6614-4010-9A87-8F80B5904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D8CF-19DC-4459-89C1-B76E60062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40BD62-030A-475F-9D2C-6346FC172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8A637E-BFFE-44DA-A820-6195ACF24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5B135C-146B-45F8-BFB7-043111B1A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5C1448-034C-440E-BC3D-D3E9940AB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F2D2FC-E1E8-4400-AAAC-2EB441056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010B08-4DCB-412B-A86E-78783258C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3C90FE-6256-4115-9281-602DA55FA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F11BD0-0472-407A-9424-870E11A67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642B79-2D28-4A52-8325-096C62080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573EF1-6453-47D9-9A59-3C547FC7E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999A-914A-414A-8BA8-0896E156C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16B23E-20DE-4009-84E5-07B122AB6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317580-118B-464D-B71C-68FDEE171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54E388-2D87-410A-8B20-C8F7102AF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24A758-383B-44E1-911E-4DD0B437E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FEDD44-6DFA-4710-8955-8875DCCE3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E889CB-D0FE-4C27-AC42-9895C8B94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E46085-5F17-4319-9795-A83A352BF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55B096-B258-4FDC-9186-32483D352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1B85D9-60C6-4792-91B9-D84DA70A9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35883F-8C08-4A68-A86D-DDB227FAC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5A37D-BCCA-41CF-8DE3-E8CE83CED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5A4A95-1E75-4168-9402-D2CF14919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8F0C2B-4D21-41E8-9ACC-1862631BC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30B4A4-F704-4E3A-8120-FA5F2C504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5023FB-7091-43E8-B9DD-069A1E31D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BA3608-88EE-4070-A1C1-7FB7037E1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F96832-59E7-4917-AA23-447C61D70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0149DB-0A50-424A-93B5-64D8E76E0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6355DF-C32D-4ECD-891F-58085C659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955818-520B-4E1E-9BB9-34400DC3A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9F2581-2E63-4F83-B310-3AE2188EC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1325E-4521-4C7D-A17A-FF3CD66AB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E9B9E1-DF4C-4872-87AB-A3C2B0A9F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BC8BAE-F02E-4720-97F4-A0D4BBD4C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DF7643-60C5-450F-933C-CEDBDD72E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CE14CA-BF8F-4301-977A-8B4E168DE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2F71E6-9036-4B67-B2B5-B89A639B8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8889E-631C-4851-808F-39E688701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6ADEA-8A00-44AE-8A57-E985FB9CD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25EEC-343B-4BFE-9196-349AF1D0C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2427D-2134-4018-8BA8-976738388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D9246-1A03-48B0-ABC8-FB10C292F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084E-5A9E-4351-916A-EE90CABFD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AA2A3-55C5-45E5-9653-5D2223033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DB076-0C8B-46F3-AC6F-AFC4BB250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CD191-C4A8-4A7D-966C-146AEAE18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D7F4D-94B2-446D-8FB9-37BD087AE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BB81C-4BB1-49BA-A6D8-0810BE202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4E1393-DEA3-4BD5-8D85-ADB907A7B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0C58B4-CCD4-4714-8A4C-A80528298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4FF9CB-A829-4C1B-A30E-84A2D6757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FF4961-895F-4ECF-8240-62C4FF6AE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E4045A-DDA3-4DDF-98C0-EE874464D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520F-FFCC-4585-82DD-6ADFCE2FC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8BD0C9-B7DC-469D-ACE9-819148F4F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5936A8-621D-4E3F-883F-F5EEAF559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CC8711-9F3E-471C-9F9A-4A51AD73F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35C306-7F7E-4F4F-BBE1-E3339CEE4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028434-3BBB-449A-8BB5-321B8FE65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5C2B06-1748-42D2-85C2-050B83CF9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9E7013-6019-47D3-82C2-1CEF1F5E6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093028-754B-4CDA-BABE-982332252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F09BF7-D9A4-4714-A66E-1BC1D7B06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83E860-7683-4847-8AEA-F807535D0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D022-1408-4212-A879-87278A8ED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67BF2C-D80C-47A9-8E78-EEC89D48B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DE8B0A-B0F1-414E-9892-FF8AAA7B1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D54FE6-B297-4A0A-8597-157596AB2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82DD03-E8B6-4CAE-91EF-8BB3F72BE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B1BCAC-201C-4942-97B0-1995BD440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8BF592-3C51-4916-82D6-8DF326D78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A8F0D3-1766-4F60-BB30-2A660E39B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7FB68D-D3D0-49A2-9FE4-E16560EC2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37E28B-0B66-4AF0-8860-E1BDB415A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F307BB-178A-42F2-9A24-B1B0D102A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7614-B440-4702-98F7-69247A717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1F99FC-0D61-41ED-B8A0-C2CE9A2D4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6C8763-1C76-460E-8B72-68801DE1A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40FAE3-5B72-4BFB-A08A-D527539ED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DD7DE1-C90F-4459-B2F1-9E1B99E51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EF0CFB-4EA2-4802-ABA8-E09A8B4CD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9BF56F-C6E7-444F-848E-E877FF2B4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75C6DC-34ED-49DB-A1FC-4066CA09B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030867-AF7F-42E4-A1A5-FC4511E60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C34B27-8F4D-4DDF-9D4D-59653F2BC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AB63F9-DE47-4435-B2DA-268744836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4C38-E44A-4566-958A-14C75DFB5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D0B014-39EA-4681-8B87-5B187722B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09D956-1736-45CE-B391-5DF04B9B3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C817FA-85E8-48AB-A8B5-4A5337376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1E4F2D-D1D8-4ECC-8E99-B4F0DFF75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0298E3-2D90-43D0-9C62-870D2C8D3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1366D6-8180-4D89-B9C8-C6CC405A2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B914BF-0E19-4D1A-82A8-6898D4C59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8C9A34-885B-479E-9C0F-C1826D5B3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C73D0E-CF5E-4940-89A3-1FFD0AA50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59CEAB-612A-4B73-B895-7A124BA19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B70B-782E-4408-904F-23BC4C27A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8F5182-78C1-4774-9FD4-74EF6D452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D43425-AADF-493E-8F6D-37819EBE8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8380C9-3D23-4D8C-8F1D-C8C0BE7C0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718CC0-13E4-4B39-8312-D5B69190F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7B38FD-AB91-4826-B4A1-ECDFE2579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68365D-01AA-499C-AE83-6E875EBCF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D53177-B599-4B04-A966-A74DBC315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74052F-1196-4133-9B4B-419881DFB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9135F3-FDB1-4B74-9585-D71B6ECDC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F4E691-21B1-46B9-8905-2E9EE1437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6DAA-6566-43C2-96B1-644AA3CBF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D1C402-F112-4057-A617-3839CC659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D9AC42-E8E4-4305-A686-05004C49D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953F9B-82BA-43D8-B937-98FB149DC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42B963-AF0E-4C9A-A449-AE6F2879F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1CEF7B-53A3-4F48-A327-7E93C0424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F5F3DF-672F-411A-A9C6-1A3C9080C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C4307F-104C-457A-90BD-114E93E96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372EB1-4912-4EBB-86F9-60BF24360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B81260-7E6F-478E-8662-14C0A885B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E645B2-5D7B-4528-816F-7E803C13F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7EE8-A451-4DBC-A233-506027D49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FADE2A-8626-4332-8BD3-A49F40EA9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113D81-A98A-4EF8-801D-2CAC1EF9E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39B4CF-F8AF-4410-BAAF-9947145BF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0CB2DC-61C0-4278-B7AC-B2FA8DE55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4832D6-9843-4FEE-AD7E-5AD7467C2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343519-8255-454B-A2B9-1D108F7E7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9DDF65-32F6-4080-B6F0-38B33C6AB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2AF7B7-94DF-42CF-A5C6-ABB1C4D71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70ECC3-426A-4D74-96B4-C5140AFCA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CF38EA-FE4B-4BAF-B2ED-39A9D3D2D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2FAA6-B1D8-4E68-93AA-622AEADE5362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Slika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04A4F-40C0-4923-A667-0916298B8481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9A31D-1CB9-42D5-8D92-B617ED0B8A1D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CD7C5-F73D-4ECF-9E64-EEA87B1B73BC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5B6E6-2DF4-46B5-B79A-7A888BF61324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80B8D-6B7E-413D-9D81-A0528B9D363D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AA7E9-639A-4CCB-8FF3-44F863F17189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Slika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2D1B5-2A11-446C-96C2-D3C5DC41985E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7DB08-B5D8-4632-AFCC-BFEE94092455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11027-D852-4F35-9055-D1E4367EF417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784F8-FA05-480D-8646-E88AF496DA30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Slika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D3393-092F-4BD3-B290-9F3D0F1A9E1A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7375e"/>
                </a:solidFill>
                <a:latin typeface="Arial"/>
                <a:ea typeface="Arial"/>
              </a:rPr>
              <a:t>Sila teža i težina tijel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4648320" y="5714640"/>
            <a:ext cx="44956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Arial"/>
                <a:ea typeface="Arial"/>
              </a:rPr>
              <a:t>Međudjelovanje i sil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TextBox 4"/>
          <p:cNvSpPr/>
          <p:nvPr/>
        </p:nvSpPr>
        <p:spPr>
          <a:xfrm>
            <a:off x="3048120" y="914400"/>
            <a:ext cx="250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Arial"/>
                <a:ea typeface="Arial"/>
              </a:rPr>
              <a:t>Uzg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Box 5"/>
          <p:cNvSpPr/>
          <p:nvPr/>
        </p:nvSpPr>
        <p:spPr>
          <a:xfrm>
            <a:off x="533520" y="3710160"/>
            <a:ext cx="5365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Sila kojom tekućina djeluje na uronjeno tijelo vertikalno prema gore zove se uzg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Box 4"/>
          <p:cNvSpPr/>
          <p:nvPr/>
        </p:nvSpPr>
        <p:spPr>
          <a:xfrm>
            <a:off x="640080" y="1839960"/>
            <a:ext cx="762048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Zašto je težina tijela uronjena u vodu manj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nego kada je ono i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zvan vod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Slika 1" descr=""/>
          <p:cNvPicPr/>
          <p:nvPr/>
        </p:nvPicPr>
        <p:blipFill>
          <a:blip r:embed="rId1"/>
          <a:stretch/>
        </p:blipFill>
        <p:spPr>
          <a:xfrm>
            <a:off x="6400800" y="2762280"/>
            <a:ext cx="256860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TextBox 3"/>
          <p:cNvSpPr/>
          <p:nvPr/>
        </p:nvSpPr>
        <p:spPr>
          <a:xfrm>
            <a:off x="271440" y="1676520"/>
            <a:ext cx="7908840" cy="41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Arial"/>
              </a:rPr>
              <a:t>Po čemu se težina tijela razlikuje od njegove mas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Koje su razlike između mase i težin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Arial"/>
              </a:rPr>
              <a:t>3.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Kolika je težina tegle mase 400 g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Izračunaj masu dječaka težine 620 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Arial"/>
              </a:rPr>
              <a:t>Što je sila uzgona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Arial"/>
              </a:rPr>
              <a:t>Kada je uronjen u vodu kamen mase 300g ima težinu 2.5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Arial"/>
              </a:rPr>
              <a:t>Koliko iznosi sila uzgona na kamen u vodi 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1" name="Slika 1" descr=""/>
          <p:cNvPicPr/>
          <p:nvPr/>
        </p:nvPicPr>
        <p:blipFill>
          <a:blip r:embed="rId1"/>
          <a:stretch/>
        </p:blipFill>
        <p:spPr>
          <a:xfrm>
            <a:off x="457200" y="785880"/>
            <a:ext cx="3328920" cy="73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Box 4"/>
          <p:cNvSpPr/>
          <p:nvPr/>
        </p:nvSpPr>
        <p:spPr>
          <a:xfrm>
            <a:off x="380880" y="1447920"/>
            <a:ext cx="8001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Zašto padobranac pada dolje, prema tlu nakon š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skoči iz avion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Zašto Mjesec kruži oko Zemlje, a Zemlja oko Sunc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Picture 5" descr=""/>
          <p:cNvPicPr/>
          <p:nvPr/>
        </p:nvPicPr>
        <p:blipFill>
          <a:blip r:embed="rId1"/>
          <a:stretch/>
        </p:blipFill>
        <p:spPr>
          <a:xfrm>
            <a:off x="1066680" y="3429000"/>
            <a:ext cx="2876760" cy="266688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2" descr=""/>
          <p:cNvPicPr/>
          <p:nvPr/>
        </p:nvPicPr>
        <p:blipFill>
          <a:blip r:embed="rId2"/>
          <a:stretch/>
        </p:blipFill>
        <p:spPr>
          <a:xfrm>
            <a:off x="457200" y="990720"/>
            <a:ext cx="2863800" cy="38088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5" descr="sun"/>
          <p:cNvPicPr/>
          <p:nvPr/>
        </p:nvPicPr>
        <p:blipFill>
          <a:blip r:embed="rId3"/>
          <a:stretch/>
        </p:blipFill>
        <p:spPr>
          <a:xfrm>
            <a:off x="4495680" y="3505320"/>
            <a:ext cx="3530880" cy="25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52280" y="76212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17375e"/>
                </a:solidFill>
                <a:latin typeface="Arial"/>
                <a:ea typeface="Arial"/>
              </a:rPr>
              <a:t>Sila tež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TextBox 4"/>
          <p:cNvSpPr/>
          <p:nvPr/>
        </p:nvSpPr>
        <p:spPr>
          <a:xfrm>
            <a:off x="457200" y="4419720"/>
            <a:ext cx="795816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17375e"/>
                </a:solidFill>
                <a:latin typeface="Arial"/>
                <a:ea typeface="Arial"/>
              </a:rPr>
              <a:t>Sila tež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sila koja djeluje na svako tijelo na površini Zeml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vertikalno prema dolj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1" name="Object 5"/>
              <p:cNvSpPr txBox="1"/>
              <p:nvPr/>
            </p:nvSpPr>
            <p:spPr>
              <a:xfrm>
                <a:off x="6019920" y="2362320"/>
                <a:ext cx="1025280" cy="13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limUpp>
                          <m:e>
                            <m:r>
                              <m:t xml:space="preserve">F</m:t>
                            </m:r>
                          </m:e>
                          <m:lim>
                            <m:r>
                              <m:t xml:space="preserve">→</m:t>
                            </m:r>
                          </m:lim>
                        </m:limUpp>
                      </m:e>
                      <m:sub>
                        <m:r>
                          <m:t xml:space="preserve">g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512" name="Picture 6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3429000" cy="32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65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17375e"/>
                </a:solidFill>
                <a:latin typeface="Arial"/>
                <a:ea typeface="Arial"/>
              </a:rPr>
              <a:t>Težina tijel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4" name="Picture 2" descr=""/>
          <p:cNvPicPr/>
          <p:nvPr/>
        </p:nvPicPr>
        <p:blipFill>
          <a:blip r:embed="rId1"/>
          <a:stretch/>
        </p:blipFill>
        <p:spPr>
          <a:xfrm>
            <a:off x="609480" y="1143000"/>
            <a:ext cx="2590920" cy="2990880"/>
          </a:xfrm>
          <a:prstGeom prst="rect">
            <a:avLst/>
          </a:prstGeom>
          <a:ln w="0">
            <a:noFill/>
          </a:ln>
        </p:spPr>
      </p:pic>
      <p:sp>
        <p:nvSpPr>
          <p:cNvPr id="515" name="TextBox 4"/>
          <p:cNvSpPr/>
          <p:nvPr/>
        </p:nvSpPr>
        <p:spPr>
          <a:xfrm>
            <a:off x="419040" y="3865680"/>
            <a:ext cx="7772400" cy="24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17375e"/>
                </a:solidFill>
                <a:latin typeface="Arial"/>
                <a:ea typeface="Arial"/>
              </a:rPr>
              <a:t>Težina</a:t>
            </a:r>
            <a:r>
              <a:rPr b="0" lang="en-US" sz="2800" spc="-1" strike="noStrike">
                <a:solidFill>
                  <a:srgbClr val="17375e"/>
                </a:solidFill>
                <a:latin typeface="Arial"/>
                <a:ea typeface="Arial"/>
              </a:rPr>
              <a:t> tijela</a:t>
            </a:r>
            <a:r>
              <a:rPr b="0" lang="hr-HR" sz="2800" spc="-1" strike="noStrike">
                <a:solidFill>
                  <a:srgbClr val="17375e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sila kojom tijel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itišće podlogu na kojoj stoji ili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kojo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jeluje na ovjes na kojemu visi.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Težinu tijela označavamo s 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6" name="Object 3"/>
              <p:cNvSpPr txBox="1"/>
              <p:nvPr/>
            </p:nvSpPr>
            <p:spPr>
              <a:xfrm>
                <a:off x="6019920" y="2362320"/>
                <a:ext cx="838080" cy="14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G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793440"/>
            <a:ext cx="8229600" cy="6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17375e"/>
                </a:solidFill>
                <a:latin typeface="Arial"/>
                <a:ea typeface="Arial"/>
              </a:rPr>
              <a:t>Hvatište</a:t>
            </a:r>
            <a:r>
              <a:rPr b="0" lang="en-US" sz="3200" spc="-1" strike="noStrike">
                <a:solidFill>
                  <a:srgbClr val="17375e"/>
                </a:solidFill>
                <a:latin typeface="Arial"/>
                <a:ea typeface="Arial"/>
              </a:rPr>
              <a:t> sile teže i tež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8" name="Picture 14" descr=""/>
          <p:cNvPicPr/>
          <p:nvPr/>
        </p:nvPicPr>
        <p:blipFill>
          <a:blip r:embed="rId1"/>
          <a:stretch/>
        </p:blipFill>
        <p:spPr>
          <a:xfrm>
            <a:off x="2179800" y="1600200"/>
            <a:ext cx="4572000" cy="2695680"/>
          </a:xfrm>
          <a:prstGeom prst="rect">
            <a:avLst/>
          </a:prstGeom>
          <a:ln w="0">
            <a:noFill/>
          </a:ln>
        </p:spPr>
      </p:pic>
      <p:sp>
        <p:nvSpPr>
          <p:cNvPr id="519" name="TextBox 20"/>
          <p:cNvSpPr/>
          <p:nvPr/>
        </p:nvSpPr>
        <p:spPr>
          <a:xfrm>
            <a:off x="4495680" y="4038480"/>
            <a:ext cx="3345120" cy="2013120"/>
          </a:xfrm>
          <a:prstGeom prst="rect">
            <a:avLst/>
          </a:prstGeom>
          <a:solidFill>
            <a:srgbClr val="dbeef4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vatište težine tijela je u podlozi na kojoj tijelo stoj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Box 20"/>
          <p:cNvSpPr/>
          <p:nvPr/>
        </p:nvSpPr>
        <p:spPr>
          <a:xfrm>
            <a:off x="457200" y="4038480"/>
            <a:ext cx="3344760" cy="2013120"/>
          </a:xfrm>
          <a:prstGeom prst="rect">
            <a:avLst/>
          </a:prstGeom>
          <a:solidFill>
            <a:srgbClr val="dbeef4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Hvatište sile teže na tijelo u samome je tijelu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TextBox 3"/>
          <p:cNvSpPr/>
          <p:nvPr/>
        </p:nvSpPr>
        <p:spPr>
          <a:xfrm>
            <a:off x="758880" y="1066680"/>
            <a:ext cx="244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Težina tijela  →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Box 4"/>
          <p:cNvSpPr/>
          <p:nvPr/>
        </p:nvSpPr>
        <p:spPr>
          <a:xfrm>
            <a:off x="771120" y="198108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Sila teža       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3" name="Object 3"/>
              <p:cNvSpPr txBox="1"/>
              <p:nvPr/>
            </p:nvSpPr>
            <p:spPr>
              <a:xfrm>
                <a:off x="3352680" y="1905120"/>
                <a:ext cx="16765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⋅</m:t>
                    </m:r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4" name="Object 4"/>
              <p:cNvSpPr txBox="1"/>
              <p:nvPr/>
            </p:nvSpPr>
            <p:spPr>
              <a:xfrm>
                <a:off x="3352680" y="990720"/>
                <a:ext cx="1646280" cy="56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⋅</m:t>
                    </m:r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5" name="Object 5"/>
              <p:cNvSpPr txBox="1"/>
              <p:nvPr/>
            </p:nvSpPr>
            <p:spPr>
              <a:xfrm>
                <a:off x="2971800" y="3048120"/>
                <a:ext cx="2665440" cy="12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G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26" name="TextBox 10"/>
          <p:cNvSpPr/>
          <p:nvPr/>
        </p:nvSpPr>
        <p:spPr>
          <a:xfrm>
            <a:off x="1066680" y="5029200"/>
            <a:ext cx="7143840" cy="119124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Za svako tijel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na Zemlji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, kvocij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ežine i mase </a:t>
            </a:r>
            <a:r>
              <a:rPr b="0" i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G/m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im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jednaku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vrijedno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Picture 2" descr=""/>
          <p:cNvPicPr/>
          <p:nvPr/>
        </p:nvPicPr>
        <p:blipFill>
          <a:blip r:embed="rId1"/>
          <a:stretch/>
        </p:blipFill>
        <p:spPr>
          <a:xfrm>
            <a:off x="1357200" y="2000160"/>
            <a:ext cx="5715000" cy="3286080"/>
          </a:xfrm>
          <a:prstGeom prst="rect">
            <a:avLst/>
          </a:prstGeom>
          <a:ln w="0">
            <a:noFill/>
          </a:ln>
        </p:spPr>
      </p:pic>
      <p:sp>
        <p:nvSpPr>
          <p:cNvPr id="528" name="TextBox 4"/>
          <p:cNvSpPr/>
          <p:nvPr/>
        </p:nvSpPr>
        <p:spPr>
          <a:xfrm>
            <a:off x="1275840" y="857160"/>
            <a:ext cx="632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Zbog oblika Zemlje sila teža nije na Zemljinoj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površini  posvuda jednak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Box 5"/>
          <p:cNvSpPr/>
          <p:nvPr/>
        </p:nvSpPr>
        <p:spPr>
          <a:xfrm>
            <a:off x="550080" y="5572080"/>
            <a:ext cx="805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U području Hrvatske težina tijela mase 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1 kg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iznosi 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9,81 N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TextBox 2"/>
          <p:cNvSpPr/>
          <p:nvPr/>
        </p:nvSpPr>
        <p:spPr>
          <a:xfrm>
            <a:off x="449640" y="1295280"/>
            <a:ext cx="6972840" cy="192276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Jelena ima masu 55 k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Kolika je njezina težin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a koje tijelo djeluje Jelenina težina kada ona stoji u sobi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Kolika sila teža djeluje na Jelenu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Box 3"/>
          <p:cNvSpPr/>
          <p:nvPr/>
        </p:nvSpPr>
        <p:spPr>
          <a:xfrm>
            <a:off x="380880" y="3657600"/>
            <a:ext cx="6553440" cy="24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ješenj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·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 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55 kg ·10 N/kg = 550 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Jelenina težina djeluje na po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550 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2" name="Slika 1" descr=""/>
          <p:cNvPicPr/>
          <p:nvPr/>
        </p:nvPicPr>
        <p:blipFill>
          <a:blip r:embed="rId1"/>
          <a:stretch/>
        </p:blipFill>
        <p:spPr>
          <a:xfrm>
            <a:off x="304920" y="857160"/>
            <a:ext cx="1015920" cy="3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TextBox 2"/>
          <p:cNvSpPr/>
          <p:nvPr/>
        </p:nvSpPr>
        <p:spPr>
          <a:xfrm>
            <a:off x="271440" y="1523880"/>
            <a:ext cx="8372160" cy="16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Na slici je predočena težina tijela mase 100 g na nekim planetim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Kolike su vrijednosti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na tim nebeskim tijelima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Istraži kolika bi bila tvoja težina na tim planetima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4" name="Picture 4" descr=""/>
          <p:cNvPicPr/>
          <p:nvPr/>
        </p:nvPicPr>
        <p:blipFill>
          <a:blip r:embed="rId1"/>
          <a:stretch/>
        </p:blipFill>
        <p:spPr>
          <a:xfrm>
            <a:off x="1752480" y="3505320"/>
            <a:ext cx="5515200" cy="2295360"/>
          </a:xfrm>
          <a:prstGeom prst="rect">
            <a:avLst/>
          </a:prstGeom>
          <a:ln w="0">
            <a:noFill/>
          </a:ln>
        </p:spPr>
      </p:pic>
      <p:pic>
        <p:nvPicPr>
          <p:cNvPr id="535" name="Picture 2" descr=""/>
          <p:cNvPicPr/>
          <p:nvPr/>
        </p:nvPicPr>
        <p:blipFill>
          <a:blip r:embed="rId2"/>
          <a:stretch/>
        </p:blipFill>
        <p:spPr>
          <a:xfrm>
            <a:off x="304920" y="914400"/>
            <a:ext cx="1523880" cy="4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8T11:40:26Z</dcterms:created>
  <dc:creator>Slavko</dc:creator>
  <dc:description/>
  <dc:language>en-US</dc:language>
  <cp:lastModifiedBy>Tomislav Dumančić</cp:lastModifiedBy>
  <dcterms:modified xsi:type="dcterms:W3CDTF">2019-09-17T08:54:48Z</dcterms:modified>
  <cp:revision>42</cp:revision>
  <dc:subject/>
  <dc:title>Slide 1</dc:title>
</cp:coreProperties>
</file>